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C31-2309-4BE2-AB13-F2ACF305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D2B-6885-4765-8056-CB3195C9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D57-70A9-47B8-9056-7504FAE5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02E-1B4F-40F5-8E2A-CA5A3892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41FE-CAB0-4C6D-A704-245D6C25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5C12-A0C9-4B7B-934A-9460852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25C-BFDB-4587-B581-05EC393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8C0-4D59-43CD-9E34-ABBBA1A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A598-2C2A-4C07-B68E-34F46116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54C2-430C-4E6F-AAB0-19BA634A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CF3D-7A0B-45BE-9CDF-7C0515E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E59-1D08-4033-ACDE-93F3B982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4C42-E5A5-49F4-A680-13F5FD02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F6B-CC70-4900-8332-F06CE25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732B-35DC-41A8-A279-442A4082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9D2E-D7C8-4EF8-8B6B-0B69E21C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02A2-A9C9-46B8-9F34-549301ED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B636-AF90-4ED4-939B-C3C85F8A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5699-1526-485B-892D-0991527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985E-CA98-4422-8F3A-90552AB5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F27D-0716-4028-8433-313A4C6B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507B-36DF-48D6-9305-78CB1678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D9E-65F3-43A9-B814-E3B1C84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FB1F-744F-4C52-9423-A467A3B4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33E3-26DB-4E6B-9F2D-69FD61F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9E4F-CC3C-4740-9729-97BF6330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0DAC-7C29-46FB-90DD-135252EC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F952-B529-4296-B8D9-7BAFE7E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EA78-D808-476F-A687-AEA0B982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F92A-58FE-40BD-8F73-C5101D1E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34C7-BF6A-4143-B351-4888946A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6357-7A95-4BC3-B47B-D2BA125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13E0-132D-47BB-8316-53943BD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C3A-BFC1-4C67-A43E-54014983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E94D-A607-4421-B99C-1847F91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72A6-83E3-43F2-BBEA-3D8FDC25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213F5-F92B-466D-AB0A-343156C2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A8FE-18F7-4835-ADF1-FFF64EE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5DAA-726F-46D4-9B91-9073FC01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53E4-232C-44CF-B4F4-D4F9C59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273C-4271-4B18-99BB-BB35997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C831-4587-4F4E-AC0E-397BE9AA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13DF-3A19-4DA8-BD99-BA83501D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B8E2-C055-4F14-8E93-F28B7999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3B5-9996-4935-B731-86E2854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AB682-E95E-40E5-A67D-17A016C0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FE5A-4A5D-4ED2-8614-B05AEDD6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97BC-E864-4110-9446-795CE51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B95D7-138F-4325-8E0C-3039BEF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81E8-4DFC-426F-B579-73EBE6C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3A40-BC15-4D95-892A-C444105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764E-375A-40F3-8C6B-D40F686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47EE-4AD2-43E1-8B34-7EDB35A4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5A2A-310D-441E-9827-31C535F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93E2-14BA-4F6A-9BF1-1ACFD73D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589-9A63-4175-A8DF-6F670C8D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5C2F-ED75-4CA6-9D73-DC52061E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B9A-1044-4656-A02D-049714BF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850-A00C-4A33-BDE3-31B17EC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452-E2FA-491E-9F27-ADAC1727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1F99-2D26-47DD-9D94-FD26ED330F0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ED7-4DF8-49AD-A8CA-188479C985C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5BE1-7BBE-465B-9A29-5AAEF61051E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4CBA-5763-4196-AEA0-2E222442244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CA6F-6438-4CFA-B51F-9B2CCF81A4F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Alli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http://www.mega.nu/ampp/martinls/martinls314/MENGELE.JPG"/>
          <p:cNvPicPr/>
          <p:nvPr/>
        </p:nvPicPr>
        <p:blipFill>
          <a:blip r:embed="rId2"/>
          <a:stretch/>
        </p:blipFill>
        <p:spPr>
          <a:xfrm>
            <a:off x="380880" y="3733920"/>
            <a:ext cx="1981440" cy="281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auschwitz.dk/menele.id17.ht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engele.dk/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jewishvirtuallibrary.org/jsource/Holocaust/Mengele.htm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indcontrolforums.com/jm-angelofdeath.ht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oreorless.au.com/killers/mengele/htm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March 16,1911, Josef Mengele was born in Gunzburg, Germa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is the oldest of three childr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joined the Nazi party in 1937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ent to the SS in 1938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as wounded on the Russian front in 1942.  He was unfit for du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volunteered to go to the concentration camp, Auschwitz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t Auschwitz, Mengele was nicknamed the Angel of Death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was apart of the selection process when Jews arrived at camp.  He either told them to go left or right.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often performed experiments at Auschwitz using twin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performed operations without anesthesi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http://3.bp.blogspot.com/_tP82lct5lSM/SoCaPEhwNrI/AAAAAAAACP8/Npg8MDXSizU/s400/mengele.jpg"/>
          <p:cNvPicPr/>
          <p:nvPr/>
        </p:nvPicPr>
        <p:blipFill>
          <a:blip r:embed="rId2"/>
          <a:stretch/>
        </p:blipFill>
        <p:spPr>
          <a:xfrm>
            <a:off x="5562720" y="3792600"/>
            <a:ext cx="2286000" cy="284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did experiments using twins as young as fiv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wins were usually murdered after the experiments were over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ldren’s eyes were injected with chemicals to try to change their eye colo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experiments were performed on twins, it did not end with the death, but rather the dissection of the corpses for medical analysi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http://www.scrapbookpages.com/auschwitzscrapbook/Mengele.jpg"/>
          <p:cNvPicPr/>
          <p:nvPr/>
        </p:nvPicPr>
        <p:blipFill>
          <a:blip r:embed="rId2"/>
          <a:stretch/>
        </p:blipFill>
        <p:spPr>
          <a:xfrm>
            <a:off x="5410080" y="3032280"/>
            <a:ext cx="222912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328680" y="317520"/>
            <a:ext cx="737712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out 1,500 sets of twins were selected for experiment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the camp was liberated in the winter of 1945, only about 200 children were aliv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fled to South America and traveled form country to country, afraid of being caugh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February 7, 1979, Mengele had a stroke while swimming in Brazil and die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not until 1985 that the world knew of his death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6:41:06Z</dcterms:created>
  <dc:creator> </dc:creator>
  <dc:description/>
  <dc:language>en-US</dc:language>
  <cp:lastModifiedBy> </cp:lastModifiedBy>
  <dcterms:modified xsi:type="dcterms:W3CDTF">2009-11-24T17:32:09Z</dcterms:modified>
  <cp:revision>19</cp:revision>
  <dc:subject/>
  <dc:title>Slide 1</dc:title>
</cp:coreProperties>
</file>